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90B-EC90-4D55-A490-EB6F165C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4AAD-C8F4-4E85-9093-1A9E8128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rawing shows what the symbols in a pedigree repres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D24-610F-4CC9-BD26-D0F17896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stic fibrosis is usually caused by the deletion of three bases in the DNA of a single gen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result, the body does not produce normal CFTR, a protein needed to transport chloride ions. Cystic fibrosis causes serious digestive and respira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598D-1B0B-4263-9BA5-974281E45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F6F-1381-4BDB-85D5-3932A2D6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F89-C775-432B-B838-E629AC4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BD2-3086-40AE-8A44-5ED87C9C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866-29B1-48A3-99E9-D77D0ACF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2418-058B-4C8A-B0E0-17AEBBF9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C146-649C-4962-AD96-08168B5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6575-3212-458A-9B0F-693DC4AD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26B7-6205-4EC5-916E-7652579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858-053F-416B-9B44-3D553E0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6D10-0D19-4CCA-8F47-8347EC6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2A9-E47C-4468-8C54-20CE65F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644-06B1-4BFC-9E24-93E8FC7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3E6-D9A0-4416-8C59-FD5C58B0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3A8C-BEE1-41F3-92CE-2709B66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8A4E-B6FF-4A00-994B-29BCC0A2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ACF6-61A6-47A2-A43C-F5E30496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D262-C5E1-4A1C-BDDB-0BAE5A10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49EF-56F1-4212-8819-1D15C3DC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216C-108F-4CE0-88EF-4BE36CB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4B2B-6718-4F17-8C81-23CD9C4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4C7E-C985-47F0-BB3E-DD360BE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DEBB-8254-42A6-86AA-BC31706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F5F-8C1F-4047-8F91-5913B8EA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B55C-33AF-4243-959E-E9C0A3B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054A-5F3C-4428-9A6D-5DA56AB3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8FE2-3E7D-4385-AC86-E651C184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41DA-4576-4AC1-9E87-AA7D0D0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1376-F78D-4D61-B31D-40A042EA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B074-DF8A-4C8D-875D-1F2253EC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C3A3-9DF2-46A0-AF99-018226C9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4345-3604-4CE7-BFE3-5C069FB2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81B1-FFC5-4CAE-8925-EE42FEE9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153E-4D48-4136-8893-0E91437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F0C-B596-4F2A-A1CA-F774EE2A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A77C-6F8F-41B7-9593-993344BE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4846-2D11-47AA-AEDF-CF19514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B15D-F4D6-4FAD-B540-86D5CFFE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709F-A46E-44B2-84BE-BEAC3FB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3095-431B-41B9-91E5-046F78A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D993-31E3-45C2-9142-E31C58F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49D1-D043-43A4-B659-045EF5F4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2B1F-FDC8-4257-BDF9-2F46D460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3737-C6AB-4757-ACF4-258014F5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889F8-327A-442E-8AA0-E227A6EF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A84-00BA-4B0C-8D51-B28CD25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4851-823E-4985-A641-2DB8B01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6E19-835F-45E2-BAEB-A2B0BA0E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2E43-302D-4309-84D0-A4E4D8C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E372-0CC1-4604-B48B-52A87BE8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C1E0-CEE0-4386-8906-8D66D71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E75B-193A-4A8E-BF46-4F37471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E6B5-CB2D-4FA2-AF66-0F39906C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9733D-1590-4AE4-8A42-A605743A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2539-A0BE-41C7-969F-FA37D6CD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FEFD-7124-451F-BBC1-F526FB64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384-1D14-4D53-A03B-3854280D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1C3E-8CEE-4FA9-8147-AB81FC8F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C9B5-05B4-470B-8AD3-9D353FD1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7A1F-10BA-4BE2-A118-0819CE52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DA34-8488-4349-83AD-99EA844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77956-EC8C-4D42-AFEA-0BDB32E1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E67D-8B6A-418F-980E-5D936CDB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0DE0-17F1-40A8-8332-CE5DBCB0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9F07-A25E-4832-AEB3-4130A4C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2937-042A-4B95-BCD9-31FEC269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2A54-7AC1-4526-8A18-AE73D9C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99E-66E1-4E9E-85D0-04F5FC5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1DA1-C71B-4786-9F91-C938D0E6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92C0-D5F1-472E-882F-658E25C2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91346-5F34-47DE-B793-07F932E5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B62D-D38A-4E79-BACF-27551946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4E609-BC39-4D7F-9D3F-ACE41CF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8E49-69AD-448D-918A-4A2B82E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4FED3-9AAC-4F13-8879-38D8EE5C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DC6C-EC8D-4AB5-BA8C-0B91756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FBD2E-C0C4-4FA8-8C3E-EAACC2F0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1095F-2902-4A15-A26C-08BA633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916-1E75-45E9-8AAA-3222A494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C64D6-5D9B-4634-9838-06B748F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1B807-EAE0-4858-9259-13A21D9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E1B8-FF37-4499-9BE2-B8B197FE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2CC3-9B94-4F7A-A1AC-B5043AC4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AB08-4060-4C33-BDC3-DAE08C9A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2B6FD-1072-4DF1-901B-9446DDBC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5D89B-234B-4648-9441-C4CCE76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2935-46CC-4C9B-B08A-ABB548AE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E3C0-CFCF-4C3B-AB86-A5F3F807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5A93-1888-407D-B1B9-95C2AA1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01D-155B-4D3B-8437-DECBA13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E949-21CB-423B-A8A6-253D358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0AE5A-6C79-4EC0-8595-51F5C7F1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6753-7865-4085-9F03-D9CD536C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EC0A6-6E07-4B88-96AB-DBAFCB9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80A1-6987-4E9F-91C2-9B73ADDB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AF1D-AC5F-4CB3-854C-C950433E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4BE57-BCDA-46EA-86B9-5231FE12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85BF-A5BF-422C-899E-3A455B7078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54B0-9C09-467E-972E-BC230441D9A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A9B-D2BE-4C7B-8610-0E6889C02D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C42-399E-4D5F-B35E-60A3AF2531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7E1-8553-4995-94C8-F2D49827AE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FE9-AF9D-4F22-85AD-D59EDB4A1E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4BD-0C83-440B-A7E1-24682363BC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2364-8362-4F05-9373-A19360A3B51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youtube.com/watch?v=Ev3yKU93Vl0&amp;feature=related" TargetMode="External"/><Relationship Id="rId3" Type="http://schemas.openxmlformats.org/officeDocument/2006/relationships/hyperlink" Target="http://www.youtube.com/watch?v=Ev3yKU93Vl0&amp;feature=related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identifying the nature of a trait, geneticists often look at family his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understanding the phenotypes of certain members of a family, they can gather more info about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organized in a pedigree ch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2"/>
          <p:cNvSpPr/>
          <p:nvPr/>
        </p:nvSpPr>
        <p:spPr>
          <a:xfrm>
            <a:off x="2527200" y="1287360"/>
            <a:ext cx="20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le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3" descr="1"/>
          <p:cNvPicPr/>
          <p:nvPr/>
        </p:nvPicPr>
        <p:blipFill>
          <a:blip r:embed="rId2"/>
          <a:stretch/>
        </p:blipFill>
        <p:spPr>
          <a:xfrm>
            <a:off x="1744560" y="2774880"/>
            <a:ext cx="5110200" cy="3422880"/>
          </a:xfrm>
          <a:prstGeom prst="rect">
            <a:avLst/>
          </a:prstGeom>
          <a:ln w="0">
            <a:noFill/>
          </a:ln>
        </p:spPr>
      </p:pic>
      <p:sp>
        <p:nvSpPr>
          <p:cNvPr id="410" name="Line 14"/>
          <p:cNvSpPr/>
          <p:nvPr/>
        </p:nvSpPr>
        <p:spPr>
          <a:xfrm flipH="1" flipV="1">
            <a:off x="3409560" y="2169720"/>
            <a:ext cx="328680" cy="9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669960" y="150192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rizontal line connecting a male and a female represents a marri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6"/>
          <p:cNvSpPr/>
          <p:nvPr/>
        </p:nvSpPr>
        <p:spPr>
          <a:xfrm>
            <a:off x="2058840" y="2457360"/>
            <a:ext cx="1944720" cy="10112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1420" h="556">
                <a:moveTo>
                  <a:pt x="1420" y="328"/>
                </a:moveTo>
                <a:lnTo>
                  <a:pt x="1420" y="556"/>
                </a:lnTo>
                <a:lnTo>
                  <a:pt x="1113" y="55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204840" y="1774800"/>
            <a:ext cx="32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aded circle or square indicates that a person expresses the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 flipV="1">
            <a:off x="934920" y="2712600"/>
            <a:ext cx="1128960" cy="307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5307120" y="12096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quare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H="1">
            <a:off x="4571640" y="2097000"/>
            <a:ext cx="833400" cy="10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6130800" y="138600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rtical line and a bracket connect the parents to thei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5"/>
          <p:cNvSpPr/>
          <p:nvPr/>
        </p:nvSpPr>
        <p:spPr>
          <a:xfrm>
            <a:off x="4210200" y="2583000"/>
            <a:ext cx="2331720" cy="1166760"/>
          </a:xfrm>
          <a:custGeom>
            <a:avLst/>
            <a:gdLst>
              <a:gd name="textAreaLeft" fmla="*/ 0 w 2331720"/>
              <a:gd name="textAreaRight" fmla="*/ 2332080 w 233172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1469" h="735">
                <a:moveTo>
                  <a:pt x="0" y="557"/>
                </a:moveTo>
                <a:lnTo>
                  <a:pt x="1469" y="0"/>
                </a:lnTo>
                <a:lnTo>
                  <a:pt x="516" y="7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7035840" y="2558880"/>
            <a:ext cx="210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le or square that is not shaded indicates that a person does not express the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6148080" y="3429000"/>
            <a:ext cx="963720" cy="10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only work for traits that are thought to be controlled by genetics al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works best on traits the are due to one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conditions are due to recessive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ill only manifest themselves if a dominant allele is pres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example is cystic fibrosis (CF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by a recessive alle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fferers of cystic fibrosis produce a thick, heavy mucus that clogs their lungs and breathing passagew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72880" y="1080720"/>
            <a:ext cx="36784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ost common allele that causes cystic fibrosis is missing 3 DNA bas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a result, the amino acid phenylalanine is missing from the CFTR prote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7" descr="gene"/>
          <p:cNvPicPr/>
          <p:nvPr/>
        </p:nvPicPr>
        <p:blipFill>
          <a:blip r:embed="rId1"/>
          <a:stretch/>
        </p:blipFill>
        <p:spPr>
          <a:xfrm>
            <a:off x="4086360" y="493560"/>
            <a:ext cx="4294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7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72880" y="1095120"/>
            <a:ext cx="43754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rmal CFTR is a chloride ion channel in cell membra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normal CFTR cannot be transported to the cell membr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it does, it will not transport Cl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eas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Part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Part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6" descr="http://www.epgonline.org/images/tobi/cf-1.jpg"/>
          <p:cNvPicPr/>
          <p:nvPr/>
        </p:nvPicPr>
        <p:blipFill>
          <a:blip r:embed="rId4"/>
          <a:stretch/>
        </p:blipFill>
        <p:spPr>
          <a:xfrm>
            <a:off x="47242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ther conditions are caused by recessive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Picture 17" descr="chart1"/>
          <p:cNvPicPr/>
          <p:nvPr/>
        </p:nvPicPr>
        <p:blipFill>
          <a:blip r:embed="rId1"/>
          <a:stretch/>
        </p:blipFill>
        <p:spPr>
          <a:xfrm>
            <a:off x="382680" y="1444680"/>
            <a:ext cx="83786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ther conditions arise from codominant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se cases, the heterozygotes have a different phenoty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saw this with thalassemia in question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ckle cell disease is another exa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dividuals that are heterozygous for this usually have normal blood cells, but are resistant to mala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456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ally, some conditions are caused by dominant alleles, although it is uncomm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8386920" y="2438280"/>
            <a:ext cx="515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80880" y="2362320"/>
          <a:ext cx="8077320" cy="2270160"/>
        </p:xfrm>
        <a:graphic>
          <a:graphicData uri="http://schemas.openxmlformats.org/drawingml/2006/table">
            <a:tbl>
              <a:tblPr/>
              <a:tblGrid>
                <a:gridCol w="2743200"/>
                <a:gridCol w="53341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isorders Caused by Dominant All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hondropl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 type of dwarf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ntington’s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ss of neurons, resulting in mental deterioration and loss of muscle contr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ypercholesterol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cess cholesterol in 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discussed earlier in this unit, the usage of karyotype ch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s have 23 pairs of chromos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sex chromosome pai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2 autosome pai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males have one X and one Y, while females have two X’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plit during meiosis, and we can use a Punnett square to determine the possible outcomes for sex of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is, we can see that the mother can only supply an X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ex of the child is solely due to the fa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rm cells should be produced in equal numbers for X and 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6" descr="C:\Users\jeremy.smith\Desktop\sexsqr1.gif"/>
          <p:cNvPicPr/>
          <p:nvPr/>
        </p:nvPicPr>
        <p:blipFill>
          <a:blip r:embed="rId1"/>
          <a:stretch/>
        </p:blipFill>
        <p:spPr>
          <a:xfrm>
            <a:off x="3048120" y="0"/>
            <a:ext cx="29718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human blood type has multiple alle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ditional convention for expressing dominance and recessiveness no longer wor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eles are often expressed as superscr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A and B types are codominant, and O is recess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is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B is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and O is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ollowing chart summarizes the genotypes and phenoty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8769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cause A and B are codominant, they both show up, but do not bl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ndividual will be A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ack of either results in 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ale heterozygous for blood type A plans to have children with a female who is heterozygous for B.  What possible blood types could their offspring ha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19920" cy="51706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380880" y="3581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90560" cy="5810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4952880" y="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838080" cy="581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5562720" y="304920"/>
            <a:ext cx="809640" cy="6285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2"/>
          <p:cNvSpPr/>
          <p:nvPr/>
        </p:nvSpPr>
        <p:spPr>
          <a:xfrm>
            <a:off x="21337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2209680" y="4648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4"/>
          <p:cNvSpPr/>
          <p:nvPr/>
        </p:nvSpPr>
        <p:spPr>
          <a:xfrm>
            <a:off x="3962520" y="12193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5"/>
          <p:cNvSpPr/>
          <p:nvPr/>
        </p:nvSpPr>
        <p:spPr>
          <a:xfrm>
            <a:off x="6248520" y="1219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6"/>
          <p:cNvSpPr/>
          <p:nvPr/>
        </p:nvSpPr>
        <p:spPr>
          <a:xfrm>
            <a:off x="3809880" y="2590920"/>
            <a:ext cx="9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7"/>
          <p:cNvSpPr/>
          <p:nvPr/>
        </p:nvSpPr>
        <p:spPr>
          <a:xfrm>
            <a:off x="6019920" y="2590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3809880" y="4648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6248520" y="4648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ossible blood types for the offspring would be AB, A, B or 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tionally, the Rh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actor is a dominant alle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57:42Z</dcterms:created>
  <dc:creator>ED18</dc:creator>
  <dc:description/>
  <dc:language>en-US</dc:language>
  <cp:lastModifiedBy>ED18</cp:lastModifiedBy>
  <dcterms:modified xsi:type="dcterms:W3CDTF">2011-11-18T13:46:13Z</dcterms:modified>
  <cp:revision>6</cp:revision>
  <dc:subject/>
  <dc:title>Heredity</dc:title>
</cp:coreProperties>
</file>